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A68-870B-41FE-BEA8-289A9860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A40-5D94-456D-B553-C3BAFE4E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834-ADD2-450A-82BC-2E0F5EC9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CFB-2F36-400D-96B4-CB995F52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F94-C202-4D6E-A566-24B338E8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D64-A647-4A14-A7CD-803F0D93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1B0-F2DA-4F7C-A5FA-E2931DE8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832-0888-4E1E-BC74-A475872C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024-463A-41DC-A2E5-2CD4D1DA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04E-DD48-4312-93B6-C47E8BFE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3ED-3D59-4A0C-96FC-6703433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9ED-1BA0-45A2-9ABB-630E592E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F386-AB22-467F-8DDA-A9791359CBFC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Desenvolvimento da Aplicação de Gestão de Licenças de Táx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bjec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tegrar a aplicação no produto TAX da AI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mplementar a solução num ambiente cliente-serv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so do PowerBuilder (baseado no FrameWork do aplicativo TAX) como Ferramenta de Desenvolv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quisitos Funcion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gisto e Manutenção das Entidades Exploradoras dos Tá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gisto e Manutenção dos Tá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gisto e Manutenção dos Contingentes e respectivos Regimes de Estac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gisto e Manutenção das Licenças de Tá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Visualização e Impressão de Licenças de Tá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missão de Guias de Recebimento automáticas e geração uutomática de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lano de Trabal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1: Anál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nálise e Identificação dos Requi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2: Des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resentação de um prot´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3: Imple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strução das Funcionalidades Identific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4: Te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stes para Validação das tarefas desenvolv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5: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sponibilização da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Metedologia de Desenvolvimento - R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e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SD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gras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isão (Revis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Lista de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cas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tótipo da arquite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e de elaboraçã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senvolvimento da Arquite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e de construçã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senvolvimento da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ocumentos de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rrecção de 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ase de Trans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stribuição e Instalação da versão Alf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lano de Desenvolvimento - G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993080" cy="1855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55840" y="4384800"/>
            <a:ext cx="628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ecnologias Utiliz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werBuilder – Ferramenta de Desenvolv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formix – Motor de Base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quisitePro – Gestão de Documentos e Organização de Taref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werDesigner – Criação de Diagramas e Modelo Concep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onto de Si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ase de Construção – Fim do desenvolvimento de uma versão Beta a apresentar ao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esv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traso Inicial devido à curva de aprendizagem do PowerBui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lano de Trabalhos sofreu alt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róximas Taref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senvolvimento de Script de Te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senvolvimento das restantes funcion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14:34:22Z</dcterms:created>
  <dc:creator>Luis Arede</dc:creator>
  <dc:description/>
  <dc:language>en-US</dc:language>
  <cp:lastModifiedBy>Luis Arede</cp:lastModifiedBy>
  <dcterms:modified xsi:type="dcterms:W3CDTF">2006-05-14T20:01:07Z</dcterms:modified>
  <cp:revision>12</cp:revision>
  <dc:subject/>
  <dc:title>Desenvolvimento da Aplicação de Gestão de Licenças de Táxi</dc:title>
</cp:coreProperties>
</file>