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4DF-5E97-4686-AE1D-E9761959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432-CEED-4647-B411-9162D282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031-ADA4-4A3B-8E25-EE2F6FBD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842-B9D9-4FF6-BB64-F9518E3E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8306-8299-47FB-8688-534CAF3E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8B2B-CAF6-4F88-A0DC-46F8CBE5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41F9-6D6C-433B-B483-00CFE7C3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0026-A914-47F3-9A64-C7E6720A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DD1F-CB5E-4386-B4AA-46C2F3AA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97E7-0F67-487B-9CE2-2219152B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AA64-1B53-4B63-B886-AC39106A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3CD-0116-4A6A-A61C-990F4C79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EB86-055E-4476-A602-07A2CA02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37D5-5BE7-4F46-8205-C8E8F368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9A7F-966D-46BB-A297-90B3CC06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DC94-CFCC-43F3-8571-320D78E7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C27B-86C3-48D7-AD48-B1D3052F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0B4-3326-4FD5-8C54-71F9DB4D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D9F-C789-408E-A2C6-51CC9AFF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111-8324-4DA9-B73C-AE058B46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D04-617B-4AF3-975E-703D078D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868-748E-46FD-8F88-6997C680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149-B279-482E-9392-C0E87EEB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285-83F7-40E2-A28E-07067222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D37E-DFB3-404E-A573-E0C52AA2AB32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0962-3E44-4A75-BCEC-506697953974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Expansão dos Casos de Us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43792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ngenharia de Requisito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1920" y="38862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Exemplo de Caso de Uso Expandid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165744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Passos em um Flux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Obrigatório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omplementar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Não Recomendado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Passos Obrigatório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Indicam as entradas e saídas de informação do sistema necessárias para realizar o caso de uso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Na falta de qualquer um desses passos o caso de uso pode ficar sem sentido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Exemplo de caso de uso onde falta uma entrada de informaçã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250992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8600" y="2654280"/>
            <a:ext cx="87631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Um diálogo impossível baseado no caso de uso anterior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28600" y="2681280"/>
            <a:ext cx="86868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Uma solução mais adequad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9" name=""/>
          <p:cNvSpPr/>
          <p:nvPr/>
        </p:nvSpPr>
        <p:spPr>
          <a:xfrm>
            <a:off x="2052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52280" y="2624040"/>
            <a:ext cx="87631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ipos de passos obrigatório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 Narrow"/>
              </a:rPr>
              <a:t>Eventos de sistema – entradas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 Narrow"/>
              </a:rPr>
              <a:t>Respostas de sistema – saídas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 Narrow"/>
              </a:rPr>
              <a:t>Obs. Não são respostas de sistema retornos do tipo “ok”. Deve ser enviada ao mundo externo algum tipo de informação que o sistema armazena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Identificação de passos obrigatórios em um Caso de Us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4" name=""/>
          <p:cNvSpPr/>
          <p:nvPr/>
        </p:nvSpPr>
        <p:spPr>
          <a:xfrm>
            <a:off x="193824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28600" y="2567160"/>
            <a:ext cx="86868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Passos Complementare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Não possuem uma entrada ou saída do sistema, mas ajudam a compreender o contexto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stes passos têm pouca ou nenhuma influência na complexidade do software a ser desenvolvido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Exemplos de passos complementare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 cliente chega ao balcão com as fitas que deseja locar”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 cliente vai embora com as fitas”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 funcionário pergunta o nome do cliente”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 sistema informa que a reserva foi concluída com sucesso”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asos de Uso no Contexto do UP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2624040" y="14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383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Passos Não Recomendado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São os processos internos ao sistema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O caso de uso deve descrever a interação entre o sistema e os atores externos, não o processamento interno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1066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Exemplos de passos que não deveriam constar em um caso de us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 sistema registra</a:t>
            </a:r>
            <a:r>
              <a:rPr b="0" i="1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 nome do cliente no banco de dados”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 sistema calcula</a:t>
            </a:r>
            <a:r>
              <a:rPr b="0" i="1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a média das vendas”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Um exemplo de caso de uso com passos não recomendado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5" name=""/>
          <p:cNvSpPr/>
          <p:nvPr/>
        </p:nvSpPr>
        <p:spPr>
          <a:xfrm>
            <a:off x="170964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1881360"/>
            <a:ext cx="91440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ratamento de Exceções no Caso de Us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Depois de descrever o fluxo principal do caso de uso, deve-se imaginar o que poderia dar errado em cada um dos passos descritos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Uma </a:t>
            </a:r>
            <a:r>
              <a:rPr b="0" i="1" lang="en-US" sz="2800" spc="-1" strike="noStrike">
                <a:solidFill>
                  <a:srgbClr val="333333"/>
                </a:solidFill>
                <a:latin typeface="Arial Narrow"/>
              </a:rPr>
              <a:t>exceção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 é um 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evento que se não for devidamente tratado impede o prosseguimento do caso de uso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A exceção em um processo não é necessariamente algo que impede que o processo seja iniciado, mas normalmente algo que impede que ele seja concluído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Partes de um tratamento de exceçã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Identificador – número da linha no FP e código da exceção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Descrição da exceção – uma fras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Ações corretivas – um fluxo alternativo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nalização – se e como retorna-se ao FP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Formas de Finalizar um Fluxo Alternativ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Voltar ao início do passo que causou a exceção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Ir para algum passo posterior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Voltar ao início do caso de uso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Abortar o caso de uso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Forma a ser evitada no Fluxo Principal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4f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64f8"/>
                </a:solidFill>
                <a:latin typeface="Arial Narrow"/>
                <a:ea typeface="Times New Roman"/>
              </a:rPr>
              <a:t>Se</a:t>
            </a:r>
            <a:r>
              <a:rPr b="0" i="1" lang="pt-BR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 o cliente possui cadastro </a:t>
            </a:r>
            <a:r>
              <a:rPr b="0" lang="pt-BR" sz="3200" spc="-1" strike="noStrike">
                <a:solidFill>
                  <a:srgbClr val="0064f8"/>
                </a:solidFill>
                <a:latin typeface="Arial Narrow"/>
                <a:ea typeface="Times New Roman"/>
              </a:rPr>
              <a:t>então</a:t>
            </a:r>
            <a:r>
              <a:rPr b="0" lang="pt-BR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 o funcionário registra...</a:t>
            </a:r>
            <a:r>
              <a:rPr b="0" lang="pt-BR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Abortar o Caso de Us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Quando não for possível ou desejável realizar um passo, o caso de uso é abortado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Não é necessário indicar isso como exceção, pois idealmente pode ocorrer a qualquer momento e em qualquer passo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Variante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Não são exceções, mas sub-conjuntos de cenários distintos dentro de um caso de uso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70964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Atividades de Expansã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Descrever o fluxo principa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Descrever fluxos alternativo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Fluxos Alternativos de Outros Casos de Us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228132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09480" y="1959120"/>
            <a:ext cx="815364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Em UML: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6" name=""/>
          <p:cNvSpPr/>
          <p:nvPr/>
        </p:nvSpPr>
        <p:spPr>
          <a:xfrm>
            <a:off x="1828800" y="13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Quando usar variantes?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Quando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uma mesma seqüência de passos é repetida em diferentes casos de uso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Quando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um caso de uso é demasiadamente complexo, e a divisão dele em variantes ajuda na sua compreensão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enário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Cada cenário é uma realização particular do caso de uso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Diferentes cenários devem ter passos obrigatórios distinto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176688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3317760"/>
            <a:ext cx="9144000" cy="35402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Contra-exemplo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onsultas no caso de us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vite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 sistema verifica se o usuário está cadastrado”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Prefira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 funcionário informa a identificação do cliente”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 sistema informa os dados do cadastro do cliente”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Outras seções de um Caso de Us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Ator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Interessado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Pré-Condiçõ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Pós-Condições de Sucesso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Requisitos Correlacionado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Variações Tecnológica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Questões em Aberto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871640" y="-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348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871640" y="-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-6934320"/>
            <a:ext cx="9177480" cy="130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28132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15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Fronteira do Sistem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ipos de caso de us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ssencia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Rea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  <a:ea typeface="Times New Roman"/>
              </a:rPr>
              <a:t>Na fase de análise, o texto dos casos de uso expandidos terá basicamente duas utilizações: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Como fonte de informação para encontrar conceitos para o modelo conceitual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Como fonte de informação para encontrar as </a:t>
            </a:r>
            <a:r>
              <a:rPr b="0" i="1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perações e consultas de sistema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, que darão origem aos métodos que fazem a interface do sistema com o mundo externo.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Operações e Consultas de Sistem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perações de sistema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 são métodos que são ativados a partir de um </a:t>
            </a:r>
            <a:r>
              <a:rPr b="0" i="1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evento de sistema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, ou seja, como resposta a uma ação de um usuário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[EV]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Consultas de sistema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 são métodos que correspondem à simples verificação de informação já armazenada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[RS]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Pode-se dizer que as operações e consultas de sistema, em conjunto, correspondem à totalidade das funções possíveis do sistema, ou seja, à funcionalidade efetiva total do sistema.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1920" y="4419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Diagrama de Seqüênci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7572"/>
                </a:solidFill>
                <a:latin typeface="Arial Narrow"/>
              </a:rPr>
              <a:t>Comentários sobre Diagramas de Seqüenci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A informação normalmente não é criada durante estes processos, mas apenas transferida ou transformada.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Um ator ou o sistema detém alguma informação, e para realizar o processo ele terá de passar esta informação adiante.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 diagrama de seqüência pode ser construído para o fluxo principal do caso de uso e eventualmente também para alguns cenários com fluxos alternativos.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 importante nesta fase não é ter o diagrama em si, mas identificar corretamente que operações e consultas de sistema são necessárias.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A existência dos diagramas completos com o fluxo de informações entre os atores e do sistema para os atores será interessante na fase de projeto da interface, mas por enquanto, na análise, é suficiente saber quais são as informações repassadas dos atores para o sistema e vice versa.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 analista deve preocupar-se então em construir um catálogo com todas as operações e consultas de sistema identificadas nesta fase, seja nos fluxos principais como os fluxos alternativos.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Mais adiante, ainda no processo de análise estas informações serão usadas para definir os contratos de operação de sistema que indicam como o sistema transforma a informação.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onsulta implícit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9" name=""/>
          <p:cNvSpPr/>
          <p:nvPr/>
        </p:nvSpPr>
        <p:spPr>
          <a:xfrm>
            <a:off x="241452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2500200"/>
            <a:ext cx="9144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onsulta explícit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2305080"/>
            <a:ext cx="91440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aracterização de termos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	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vento de sistema: dos atores para a aplicação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Resposta de sistema: do controlador para a aplicação e da aplicação para os ator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Operação de sistema: da aplicação para o controlador (altera a informação – não segue resposta de sistema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onsulta de sistema: da aplicação para o controlador (não altera a informação – segue resposta de sistema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asos de Uso Essenciai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Apenas a “essência” das operações é apresentada, em oposição à sua realização concreta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ipos de Operação de Sistem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perações com parâmetros, que usualmente correspondem a eventos informativos.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Operações sem parâmetros, que usualmente correspondem a eventos de controle.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Sistema Atual </a:t>
            </a:r>
            <a:r>
              <a:rPr b="0" lang="en-US" sz="4400" spc="-1" strike="noStrike">
                <a:solidFill>
                  <a:srgbClr val="007572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 Sistema Futuro </a:t>
            </a:r>
            <a:r>
              <a:rPr b="0" lang="en-US" sz="4400" spc="-1" strike="noStrike">
                <a:solidFill>
                  <a:srgbClr val="007572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 Descrição Essencial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Atual: “o funcionário procura a ficha do cliente no fichário”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Futuro: “o funcionário clica no botão “procurar” digitando o código do cliente no campo X3”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Essencial: “o funcionário localiza as informações sobre o cliente”.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asos de Uso na Análise e Projet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Na análise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 o objetivo é estudar o sistema para descobrir as necessidades do cliente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Casos de Uso Essenciais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No projeto o objetivo é produzir uma solução implementada de um sistema informatizado para uso pelo cliente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Casos de Uso Reais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Níveis de Detalhament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Alto Ní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xpandido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Exemplo de Caso de Uso de Alto Nível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3" name=""/>
          <p:cNvSpPr/>
          <p:nvPr/>
        </p:nvSpPr>
        <p:spPr>
          <a:xfrm>
            <a:off x="20527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76312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3:39:18Z</dcterms:created>
  <dc:creator>Raul Sidnei Wazlawick</dc:creator>
  <dc:description/>
  <dc:language>en-US</dc:language>
  <cp:lastModifiedBy>Raul Sidnei Wazlawick</cp:lastModifiedBy>
  <dcterms:modified xsi:type="dcterms:W3CDTF">2005-02-16T17:12:56Z</dcterms:modified>
  <cp:revision>8</cp:revision>
  <dc:subject/>
  <dc:title>Apresentação do PowerPoint</dc:title>
</cp:coreProperties>
</file>