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1DEB12-76DD-4B9D-80F4-74027DDDB2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B92A8A-1162-4847-9279-13E698D31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4BEA98-81F4-4BA4-87B4-E705B991CB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77CF9A-602F-4618-8B01-44FEBEBB3F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BA1F7-8E00-4AA0-B5B8-EE47CFD8F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A1BEF-69D9-4DE2-B089-18D8A65DA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7C052-2BB8-476E-82B2-ABF878A20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7B043-1891-492A-BB13-C71E93FB3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77366-3166-40DE-85C5-69C698A47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372DE-5FAB-4E57-B010-D62E89673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4CB26-F281-40CE-833F-9199E0737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097487-AC2B-476D-979F-C30A05B8B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F868D-9919-4F97-9283-F3701DE8C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4F1F8-7BBD-4113-BBA2-CAF287ABC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CA9CD-56FB-4F2B-B8A6-BBDA02216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15D3E-11FA-466B-9F2D-F55B1F878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C951D-22A0-4E43-86B7-2BBF3C501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33056B-D462-4076-994D-B09A24E94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B48E7A-A36C-4C44-9A9B-DC1DFDF48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9C6A31-D4FF-4C42-B841-35B05F44F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3C2D4F-A5D9-4E23-9060-85537B162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599AD7-7C79-4C0D-AAB9-7B12DAB01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958590-7562-4862-8F23-F69253E5C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18F196-0797-4D3E-9317-2980072072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8501-7434-4C01-9AB7-4FAF3A7FC7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AC1B-FA07-434A-A81D-2FA226BC0A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Business Process Modeling Notation (BPMN)</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400" spc="-1" strike="noStrike">
                <a:solidFill>
                  <a:srgbClr val="000000"/>
                </a:solidFill>
                <a:latin typeface="Arial"/>
              </a:rPr>
              <a:t>Milton Alex Pestana de Abreu</a:t>
            </a:r>
            <a:endParaRPr b="0" lang="en-US" sz="3400" spc="-1" strike="noStrike">
              <a:solidFill>
                <a:srgbClr val="000000"/>
              </a:solidFill>
              <a:latin typeface="Arial"/>
            </a:endParaRPr>
          </a:p>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400" spc="-1" strike="noStrike">
                <a:solidFill>
                  <a:srgbClr val="000000"/>
                </a:solidFill>
                <a:latin typeface="Arial"/>
              </a:rPr>
              <a:t>Nº 2008599</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 de Fluxo</a:t>
            </a:r>
            <a:endParaRPr b="0" lang="en-US" sz="4400" spc="-1" strike="noStrike">
              <a:solidFill>
                <a:srgbClr val="000000"/>
              </a:solidFill>
              <a:latin typeface="Arial"/>
            </a:endParaRPr>
          </a:p>
        </p:txBody>
      </p:sp>
      <p:sp>
        <p:nvSpPr>
          <p:cNvPr id="140" name=""/>
          <p:cNvSpPr/>
          <p:nvPr/>
        </p:nvSpPr>
        <p:spPr>
          <a:xfrm>
            <a:off x="2243160" y="581040"/>
            <a:ext cx="1711440" cy="360"/>
          </a:xfrm>
          <a:prstGeom prst="rect">
            <a:avLst/>
          </a:prstGeom>
          <a:solidFill>
            <a:srgbClr val="000080"/>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2243160" y="5810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2243160" y="5810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143" name=""/>
          <p:cNvGraphicFramePr/>
          <p:nvPr/>
        </p:nvGraphicFramePr>
        <p:xfrm>
          <a:off x="539640" y="1557360"/>
          <a:ext cx="8353440" cy="4824360"/>
        </p:xfrm>
        <a:graphic>
          <a:graphicData uri="http://schemas.openxmlformats.org/drawingml/2006/table">
            <a:tbl>
              <a:tblPr/>
              <a:tblGrid>
                <a:gridCol w="1728720"/>
                <a:gridCol w="4378680"/>
                <a:gridCol w="2246040"/>
              </a:tblGrid>
              <a:tr h="1852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arefas (Atómica)</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ma tarefa é uma actividade atómica se esta incluída dentro de um processo. Uma tarefa é usada quando o trabalho no processo não é quebrado para um nível abaixo para detalhar melhor o modelo do processo.</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1363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smembramento de sub-processos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s detalhes do sub-processo não são visíveis no diagrama. Mas o sinal "+" na figura indica que a actividade é um processo secundário e tem um baixo nível de detalhe.</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160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pansão Sub-Processo</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 limite do sub-processo é expandido e os detalhes são visíveis dentro de seu limit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a: O Fluxo da sequência não se pode cruzar com o limite de um sub-processo.</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bl>
          </a:graphicData>
        </a:graphic>
      </p:graphicFrame>
      <p:pic>
        <p:nvPicPr>
          <p:cNvPr id="144" name="" descr=""/>
          <p:cNvPicPr/>
          <p:nvPr/>
        </p:nvPicPr>
        <p:blipFill>
          <a:blip r:embed="rId1"/>
          <a:stretch/>
        </p:blipFill>
        <p:spPr>
          <a:xfrm>
            <a:off x="6948360" y="4869000"/>
            <a:ext cx="1600200" cy="1076040"/>
          </a:xfrm>
          <a:prstGeom prst="rect">
            <a:avLst/>
          </a:prstGeom>
          <a:ln w="0">
            <a:noFill/>
          </a:ln>
        </p:spPr>
      </p:pic>
      <p:pic>
        <p:nvPicPr>
          <p:cNvPr id="145" name="" descr=""/>
          <p:cNvPicPr/>
          <p:nvPr/>
        </p:nvPicPr>
        <p:blipFill>
          <a:blip r:embed="rId2"/>
          <a:stretch/>
        </p:blipFill>
        <p:spPr>
          <a:xfrm>
            <a:off x="7308720" y="3716280"/>
            <a:ext cx="885960" cy="666720"/>
          </a:xfrm>
          <a:prstGeom prst="rect">
            <a:avLst/>
          </a:prstGeom>
          <a:ln w="0">
            <a:noFill/>
          </a:ln>
        </p:spPr>
      </p:pic>
      <p:pic>
        <p:nvPicPr>
          <p:cNvPr id="146" name="" descr=""/>
          <p:cNvPicPr/>
          <p:nvPr/>
        </p:nvPicPr>
        <p:blipFill>
          <a:blip r:embed="rId3"/>
          <a:stretch/>
        </p:blipFill>
        <p:spPr>
          <a:xfrm>
            <a:off x="7236000" y="2133720"/>
            <a:ext cx="933120" cy="63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 de Fluxo</a:t>
            </a:r>
            <a:endParaRPr b="0" lang="en-US" sz="4400" spc="-1" strike="noStrike">
              <a:solidFill>
                <a:srgbClr val="000000"/>
              </a:solidFill>
              <a:latin typeface="Arial"/>
            </a:endParaRPr>
          </a:p>
        </p:txBody>
      </p:sp>
      <p:sp>
        <p:nvSpPr>
          <p:cNvPr id="148" name=""/>
          <p:cNvSpPr/>
          <p:nvPr/>
        </p:nvSpPr>
        <p:spPr>
          <a:xfrm>
            <a:off x="2243160" y="1357200"/>
            <a:ext cx="1711440" cy="360"/>
          </a:xfrm>
          <a:prstGeom prst="rect">
            <a:avLst/>
          </a:prstGeom>
          <a:solidFill>
            <a:srgbClr val="000080"/>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49" name=""/>
          <p:cNvSpPr/>
          <p:nvPr/>
        </p:nvSpPr>
        <p:spPr>
          <a:xfrm>
            <a:off x="2243160" y="135720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150" name=""/>
          <p:cNvGraphicFramePr/>
          <p:nvPr/>
        </p:nvGraphicFramePr>
        <p:xfrm>
          <a:off x="468360" y="2060640"/>
          <a:ext cx="8207280" cy="4392720"/>
        </p:xfrm>
        <a:graphic>
          <a:graphicData uri="http://schemas.openxmlformats.org/drawingml/2006/table">
            <a:tbl>
              <a:tblPr/>
              <a:tblGrid>
                <a:gridCol w="1942920"/>
                <a:gridCol w="3816360"/>
                <a:gridCol w="2448000"/>
              </a:tblGrid>
              <a:tr h="1160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ateway</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Uma gateway é usada para controlar a divergência e a convergência do fluxo múltiplo da sequência. </a:t>
                      </a:r>
                      <a:r>
                        <a:rPr b="0" lang="en-US" sz="1200" spc="-1" strike="noStrike">
                          <a:solidFill>
                            <a:srgbClr val="000000"/>
                          </a:solidFill>
                          <a:latin typeface="Times New Roman"/>
                          <a:ea typeface="Times New Roman"/>
                        </a:rPr>
                        <a:t>Assim, determinará ramificar, e juntara os trajectos.</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3232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ea typeface="Times New Roman"/>
                        </a:rPr>
                        <a:t>Tipo de Controlo da Gateway</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just">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Os ícones dentro do losango indicarão o tipo de comportamento do controlo de fluxo. </a:t>
                      </a:r>
                      <a:r>
                        <a:rPr b="0" lang="en-US" sz="1200" spc="-1" strike="noStrike">
                          <a:solidFill>
                            <a:srgbClr val="000000"/>
                          </a:solidFill>
                          <a:latin typeface="Times New Roman"/>
                          <a:ea typeface="Times New Roman"/>
                        </a:rPr>
                        <a:t>Os tipos de controlo incluem:</a:t>
                      </a:r>
                      <a:endParaRPr b="0" lang="en-US" sz="1200" spc="-1" strike="noStrike">
                        <a:solidFill>
                          <a:srgbClr val="000000"/>
                        </a:solidFill>
                        <a:latin typeface="Arial"/>
                      </a:endParaRPr>
                    </a:p>
                    <a:p>
                      <a:pPr indent="144360" algn="just">
                        <a:lnSpc>
                          <a:spcPct val="100000"/>
                        </a:lnSpc>
                        <a:buClr>
                          <a:srgbClr val="00000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XOR: decisão exclusivas. Pode ser mostrado com ou sem o marcador de "X".</a:t>
                      </a:r>
                      <a:endParaRPr b="0" lang="en-US" sz="1200" spc="-1" strike="noStrike">
                        <a:solidFill>
                          <a:srgbClr val="000000"/>
                        </a:solidFill>
                        <a:latin typeface="Arial"/>
                      </a:endParaRPr>
                    </a:p>
                    <a:p>
                      <a:pPr indent="144360" algn="just">
                        <a:lnSpc>
                          <a:spcPct val="100000"/>
                        </a:lnSpc>
                        <a:buClr>
                          <a:srgbClr val="00000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t>
                      </a:r>
                      <a:endParaRPr b="0" lang="en-US" sz="1200" spc="-1" strike="noStrike">
                        <a:solidFill>
                          <a:srgbClr val="000000"/>
                        </a:solidFill>
                        <a:latin typeface="Arial"/>
                      </a:endParaRPr>
                    </a:p>
                    <a:p>
                      <a:pPr indent="144360" algn="just">
                        <a:lnSpc>
                          <a:spcPct val="100000"/>
                        </a:lnSpc>
                        <a:buClr>
                          <a:srgbClr val="00000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Complexo: circunstâncias e situações complexas (por exemplo, 3 fora de 5).</a:t>
                      </a:r>
                      <a:endParaRPr b="0" lang="en-US" sz="1200" spc="-1" strike="noStrike">
                        <a:solidFill>
                          <a:srgbClr val="000000"/>
                        </a:solidFill>
                        <a:latin typeface="Arial"/>
                      </a:endParaRPr>
                    </a:p>
                    <a:p>
                      <a:pPr indent="144360" algn="just">
                        <a:lnSpc>
                          <a:spcPct val="100000"/>
                        </a:lnSpc>
                        <a:buClr>
                          <a:srgbClr val="000000"/>
                        </a:buClr>
                        <a:buFont typeface="Symbol" charset="2"/>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a:t>
                      </a:r>
                      <a:endParaRPr b="0" lang="en-US" sz="1200" spc="-1" strike="noStrike">
                        <a:solidFill>
                          <a:srgbClr val="000000"/>
                        </a:solidFill>
                        <a:latin typeface="Arial"/>
                      </a:endParaRPr>
                    </a:p>
                    <a:p>
                      <a:pPr algn="just">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Cada tipo de controlo e afecta o fluxo entrante.</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pic>
        <p:nvPicPr>
          <p:cNvPr id="151" name="" descr=""/>
          <p:cNvPicPr/>
          <p:nvPr/>
        </p:nvPicPr>
        <p:blipFill>
          <a:blip r:embed="rId1"/>
          <a:stretch/>
        </p:blipFill>
        <p:spPr>
          <a:xfrm>
            <a:off x="6372360" y="3357720"/>
            <a:ext cx="2206440" cy="2808000"/>
          </a:xfrm>
          <a:prstGeom prst="rect">
            <a:avLst/>
          </a:prstGeom>
          <a:ln w="0">
            <a:noFill/>
          </a:ln>
        </p:spPr>
      </p:pic>
      <p:pic>
        <p:nvPicPr>
          <p:cNvPr id="152" name="" descr=""/>
          <p:cNvPicPr/>
          <p:nvPr/>
        </p:nvPicPr>
        <p:blipFill>
          <a:blip r:embed="rId2"/>
          <a:stretch/>
        </p:blipFill>
        <p:spPr>
          <a:xfrm>
            <a:off x="7380360" y="2349360"/>
            <a:ext cx="457200" cy="44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exão de Objectos</a:t>
            </a:r>
            <a:endParaRPr b="0" lang="en-US" sz="4400" spc="-1" strike="noStrike">
              <a:solidFill>
                <a:srgbClr val="000000"/>
              </a:solidFill>
              <a:latin typeface="Arial"/>
            </a:endParaRPr>
          </a:p>
        </p:txBody>
      </p:sp>
      <p:sp>
        <p:nvSpPr>
          <p:cNvPr id="154" name=""/>
          <p:cNvSpPr/>
          <p:nvPr/>
        </p:nvSpPr>
        <p:spPr>
          <a:xfrm>
            <a:off x="2243160" y="-37148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5" name=""/>
          <p:cNvSpPr/>
          <p:nvPr/>
        </p:nvSpPr>
        <p:spPr>
          <a:xfrm>
            <a:off x="2243160" y="-37148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6" name=""/>
          <p:cNvSpPr/>
          <p:nvPr/>
        </p:nvSpPr>
        <p:spPr>
          <a:xfrm>
            <a:off x="2243160" y="-37148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7" name=""/>
          <p:cNvSpPr/>
          <p:nvPr/>
        </p:nvSpPr>
        <p:spPr>
          <a:xfrm>
            <a:off x="2243160" y="-37148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8" name=""/>
          <p:cNvSpPr/>
          <p:nvPr/>
        </p:nvSpPr>
        <p:spPr>
          <a:xfrm>
            <a:off x="2243160" y="-37148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243160" y="-37148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160" name=""/>
          <p:cNvGraphicFramePr/>
          <p:nvPr/>
        </p:nvGraphicFramePr>
        <p:xfrm>
          <a:off x="468360" y="1628640"/>
          <a:ext cx="8353440" cy="4680000"/>
        </p:xfrm>
        <a:graphic>
          <a:graphicData uri="http://schemas.openxmlformats.org/drawingml/2006/table">
            <a:tbl>
              <a:tblPr/>
              <a:tblGrid>
                <a:gridCol w="1800000"/>
                <a:gridCol w="4307040"/>
                <a:gridCol w="2246400"/>
              </a:tblGrid>
              <a:tr h="1170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luxo de Sequencia</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m fluxo da sequência é usado para mostrar à ordem que as actividades estarão executadas em um processo.</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158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luxo de Mensagem</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Um fluxo da mensagem é usado para mostrar o fluxo das mensagens entre duas entidades que são preparadas para as emitir e receber. Em BPMN, dois pools separados no diagrama representarão as duas entidades.</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92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sociação</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ma associação é usada para associar a informação com os objectos do fluxo. O texto e os objectos gráficos podem ser associados com os objectos do fluxo.</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pic>
        <p:nvPicPr>
          <p:cNvPr id="161" name="" descr=""/>
          <p:cNvPicPr/>
          <p:nvPr/>
        </p:nvPicPr>
        <p:blipFill>
          <a:blip r:embed="rId1"/>
          <a:stretch/>
        </p:blipFill>
        <p:spPr>
          <a:xfrm>
            <a:off x="7164360" y="2060640"/>
            <a:ext cx="1066680" cy="247680"/>
          </a:xfrm>
          <a:prstGeom prst="rect">
            <a:avLst/>
          </a:prstGeom>
          <a:ln w="0">
            <a:noFill/>
          </a:ln>
        </p:spPr>
      </p:pic>
      <p:pic>
        <p:nvPicPr>
          <p:cNvPr id="162" name="" descr=""/>
          <p:cNvPicPr/>
          <p:nvPr/>
        </p:nvPicPr>
        <p:blipFill>
          <a:blip r:embed="rId2"/>
          <a:stretch/>
        </p:blipFill>
        <p:spPr>
          <a:xfrm>
            <a:off x="7093080" y="3429000"/>
            <a:ext cx="1085760" cy="171360"/>
          </a:xfrm>
          <a:prstGeom prst="rect">
            <a:avLst/>
          </a:prstGeom>
          <a:ln w="0">
            <a:noFill/>
          </a:ln>
        </p:spPr>
      </p:pic>
      <p:pic>
        <p:nvPicPr>
          <p:cNvPr id="163" name="" descr=""/>
          <p:cNvPicPr/>
          <p:nvPr/>
        </p:nvPicPr>
        <p:blipFill>
          <a:blip r:embed="rId3"/>
          <a:stretch/>
        </p:blipFill>
        <p:spPr>
          <a:xfrm>
            <a:off x="7093080" y="4941720"/>
            <a:ext cx="1038240" cy="38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Swimlanes</a:t>
            </a:r>
            <a:br>
              <a:rPr sz="4000"/>
            </a:br>
            <a:endParaRPr b="0" lang="en-US" sz="4000" spc="-1" strike="noStrike">
              <a:solidFill>
                <a:srgbClr val="000000"/>
              </a:solidFill>
              <a:latin typeface="Arial"/>
            </a:endParaRPr>
          </a:p>
        </p:txBody>
      </p:sp>
      <p:sp>
        <p:nvSpPr>
          <p:cNvPr id="165" name=""/>
          <p:cNvSpPr/>
          <p:nvPr/>
        </p:nvSpPr>
        <p:spPr>
          <a:xfrm>
            <a:off x="2243160" y="1814400"/>
            <a:ext cx="1711440" cy="360"/>
          </a:xfrm>
          <a:prstGeom prst="rect">
            <a:avLst/>
          </a:prstGeom>
          <a:solidFill>
            <a:srgbClr val="000080"/>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6" name=""/>
          <p:cNvSpPr/>
          <p:nvPr/>
        </p:nvSpPr>
        <p:spPr>
          <a:xfrm>
            <a:off x="2243160" y="181440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167" name=""/>
          <p:cNvGraphicFramePr/>
          <p:nvPr/>
        </p:nvGraphicFramePr>
        <p:xfrm>
          <a:off x="468360" y="1957320"/>
          <a:ext cx="8207280" cy="4351320"/>
        </p:xfrm>
        <a:graphic>
          <a:graphicData uri="http://schemas.openxmlformats.org/drawingml/2006/table">
            <a:tbl>
              <a:tblPr/>
              <a:tblGrid>
                <a:gridCol w="2114640"/>
                <a:gridCol w="3078000"/>
                <a:gridCol w="3014640"/>
              </a:tblGrid>
              <a:tr h="217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ol</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Um pool representa um participante em um processo. É também actos como um "swimlane" e um recipiente gráfico para dividir um jogo das actividades de outros pools, geralmente no contexto de situações de B2B.</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2174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ane</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Uma lane é uma sub-partição dentro de um pool e estenderá o comprimento inteiro do pool, verticalmente ou horizontalmente. As lanes são usadas organizar e categorizar actividades dentro de um pool.</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pic>
        <p:nvPicPr>
          <p:cNvPr id="168" name="" descr=""/>
          <p:cNvPicPr/>
          <p:nvPr/>
        </p:nvPicPr>
        <p:blipFill>
          <a:blip r:embed="rId1"/>
          <a:stretch/>
        </p:blipFill>
        <p:spPr>
          <a:xfrm>
            <a:off x="6012000" y="4581360"/>
            <a:ext cx="2447640" cy="722520"/>
          </a:xfrm>
          <a:prstGeom prst="rect">
            <a:avLst/>
          </a:prstGeom>
          <a:ln w="0">
            <a:noFill/>
          </a:ln>
        </p:spPr>
      </p:pic>
      <p:pic>
        <p:nvPicPr>
          <p:cNvPr id="169" name="" descr=""/>
          <p:cNvPicPr/>
          <p:nvPr/>
        </p:nvPicPr>
        <p:blipFill>
          <a:blip r:embed="rId2"/>
          <a:stretch/>
        </p:blipFill>
        <p:spPr>
          <a:xfrm>
            <a:off x="5940360" y="2492280"/>
            <a:ext cx="2448000" cy="72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efactos</a:t>
            </a:r>
            <a:endParaRPr b="0" lang="en-US" sz="4400" spc="-1" strike="noStrike">
              <a:solidFill>
                <a:srgbClr val="000000"/>
              </a:solidFill>
              <a:latin typeface="Arial"/>
            </a:endParaRPr>
          </a:p>
        </p:txBody>
      </p:sp>
      <p:graphicFrame>
        <p:nvGraphicFramePr>
          <p:cNvPr id="171" name=""/>
          <p:cNvGraphicFramePr/>
          <p:nvPr/>
        </p:nvGraphicFramePr>
        <p:xfrm>
          <a:off x="468360" y="1833480"/>
          <a:ext cx="8207280" cy="4619880"/>
        </p:xfrm>
        <a:graphic>
          <a:graphicData uri="http://schemas.openxmlformats.org/drawingml/2006/table">
            <a:tbl>
              <a:tblPr/>
              <a:tblGrid>
                <a:gridCol w="1800000"/>
                <a:gridCol w="4224600"/>
                <a:gridCol w="2182680"/>
              </a:tblGrid>
              <a:tr h="1874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jecto de Dados</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s objectos dos dados são considerados artefactos porque não têm nenhum efeito directo no fluxo da sequência ou no fluxo da mensagem do processo, mas fornecem a informação sobre o que as actividades requerem para ser executadas e/ou o que produzem.</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1540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rupo</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Agrupar as actividades que não afecta o fluxo da sequência. Agrupar pode ser usado para finalidades da documentação ou da análise. Os grupos podem também ser usados identificar as actividades de uma transacção distribuída que seja mostrada através dos pools.</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204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otação</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anotações do texto são um mecanismo para que um modelador forneça a informação adicional para o leitor de um diagrama de BPMN.</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pic>
        <p:nvPicPr>
          <p:cNvPr id="172" name="" descr=""/>
          <p:cNvPicPr/>
          <p:nvPr/>
        </p:nvPicPr>
        <p:blipFill>
          <a:blip r:embed="rId1"/>
          <a:stretch/>
        </p:blipFill>
        <p:spPr>
          <a:xfrm>
            <a:off x="7380360" y="2421000"/>
            <a:ext cx="399960" cy="533160"/>
          </a:xfrm>
          <a:prstGeom prst="rect">
            <a:avLst/>
          </a:prstGeom>
          <a:ln w="0">
            <a:noFill/>
          </a:ln>
        </p:spPr>
      </p:pic>
      <p:pic>
        <p:nvPicPr>
          <p:cNvPr id="173" name="" descr=""/>
          <p:cNvPicPr/>
          <p:nvPr/>
        </p:nvPicPr>
        <p:blipFill>
          <a:blip r:embed="rId2"/>
          <a:stretch/>
        </p:blipFill>
        <p:spPr>
          <a:xfrm>
            <a:off x="6804000" y="3860640"/>
            <a:ext cx="1495440" cy="1190880"/>
          </a:xfrm>
          <a:prstGeom prst="rect">
            <a:avLst/>
          </a:prstGeom>
          <a:ln w="0">
            <a:noFill/>
          </a:ln>
        </p:spPr>
      </p:pic>
      <p:sp>
        <p:nvSpPr>
          <p:cNvPr id="174" name=""/>
          <p:cNvSpPr/>
          <p:nvPr/>
        </p:nvSpPr>
        <p:spPr>
          <a:xfrm>
            <a:off x="2243160" y="-7496280"/>
            <a:ext cx="1711440" cy="360"/>
          </a:xfrm>
          <a:prstGeom prst="rect">
            <a:avLst/>
          </a:prstGeom>
          <a:solidFill>
            <a:srgbClr val="000080"/>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5"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6"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7"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8"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0"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1"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2"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3"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4"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5"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6"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8"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90" name=""/>
          <p:cNvSpPr/>
          <p:nvPr/>
        </p:nvSpPr>
        <p:spPr>
          <a:xfrm>
            <a:off x="2243160" y="-749628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91" name="" descr=""/>
          <p:cNvPicPr/>
          <p:nvPr/>
        </p:nvPicPr>
        <p:blipFill>
          <a:blip r:embed="rId3"/>
          <a:stretch/>
        </p:blipFill>
        <p:spPr>
          <a:xfrm>
            <a:off x="6804000" y="5589720"/>
            <a:ext cx="1571760" cy="42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ionamento</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laborar um mapa o esquema do processos, tal como existe na actualida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ois tipos básicos de modelos que podem ser criados com um BPD:</a:t>
            </a:r>
            <a:endParaRPr b="0" lang="en-US" sz="32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llaborative (Public) B2B Processe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nternal (Private) Business Proc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ionamento</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llaborative (Public) B2B Proces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B2B descreve as interacções entre dois ou mais entidades de negóci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diagramas processos são geralmente de um ponto global da vis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e as inteirações que são visíveis ao público para cada participan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ionamento</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nternal (Private) Business Process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m processo negócio focalizará geralmente no ponto da vista de uma única organização do negócio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Definem as actividades que não são geralmente visíveis ao público e são, consequentemente, actividades confidenciai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fluxo da sequência do processo é contido consequentemente dentro do pool e não pode cruzar os limites do pool.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idades diferentes – níveis diferentes da precisão</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çando com capturar actividades alto nível e então perfurá-las para baixo a uns níveis mais baixos do detalhe dentro dos diagramas separado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e haver uns níveis múltiplos dos diagramas, dependendo da metodologia usada para o desenvolvimento modelo.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tanto, BPMN é independente de todo o processo específico que modela a metodolog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íveis diferentes de Precisão</a:t>
            </a:r>
            <a:endParaRPr b="0" lang="en-US" sz="4400" spc="-1" strike="noStrike">
              <a:solidFill>
                <a:srgbClr val="000000"/>
              </a:solidFill>
              <a:latin typeface="Arial"/>
            </a:endParaRPr>
          </a:p>
        </p:txBody>
      </p:sp>
      <p:pic>
        <p:nvPicPr>
          <p:cNvPr id="201" name="" descr=""/>
          <p:cNvPicPr/>
          <p:nvPr/>
        </p:nvPicPr>
        <p:blipFill>
          <a:blip r:embed="rId1"/>
          <a:stretch/>
        </p:blipFill>
        <p:spPr>
          <a:xfrm>
            <a:off x="539640" y="2708280"/>
            <a:ext cx="8280360" cy="3960720"/>
          </a:xfrm>
          <a:prstGeom prst="rect">
            <a:avLst/>
          </a:prstGeom>
          <a:ln w="0">
            <a:noFill/>
          </a:ln>
        </p:spPr>
      </p:pic>
      <p:pic>
        <p:nvPicPr>
          <p:cNvPr id="202" name="" descr=""/>
          <p:cNvPicPr/>
          <p:nvPr/>
        </p:nvPicPr>
        <p:blipFill>
          <a:blip r:embed="rId2"/>
          <a:stretch/>
        </p:blipFill>
        <p:spPr>
          <a:xfrm>
            <a:off x="468360" y="1484280"/>
            <a:ext cx="8280360" cy="111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troducção</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envolvido pela  Business Process Management Initiative (BPMI)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 a chegada das TI e em especial nos sistemas como: ERP, CRM, quando se inicio um esforço por automatizar estes process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o</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ndardizar conjunto de artefactos para suportar o negócio geral que modela e domínios verticais do negóci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ção dos diagramas do processo do negócio de BPMN e da actividade de UML ocorrer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ção</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necer uma notação que fosse compreensível por todos os utilizadores do negócio.</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um diagrama do processo do negócio, que seja baseado em uma técnica do fluxo gramas para criar modelos gráficos de operações do processo do negócio.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ar uma rede de objectos gráficos, que são actividades e os controlos de fluxo que definem sua ordem do desempenh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rão</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grupo de funcionamento de BPMN assegurar-se-á de que a notação:</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ja metodologia independente, no sentido que poderá expressar todos os processos usando BPML.</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ja aceitável e utilizável pela comunidade de negócio. Se os processos pequenos de BPML (ou os fragmentos dos processos) não puderem facilmente representado para baixo por um analista do negócio em uma parte de papel em branco então BPMN não terá sido bem sucedido.</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ja útil em iluminar um processo complexo de BPML. Isto é, um exemplo complexo de BPML, transcrito a BPMN, deve ser uma etapa para mais adiante compreender o processo, para aquelas não capazes de ler directamente o esquema de BPML XML.</a:t>
            </a:r>
            <a:endParaRPr b="0" lang="en-US" sz="2000" spc="-1" strike="noStrike">
              <a:solidFill>
                <a:srgbClr val="000000"/>
              </a:solidFill>
              <a:latin typeface="Arial"/>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ja útil em interacções iluminando entre organizações em situações de B2B, incluindo a manipulação de transacções de negó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rão</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orte canónica a semântica de BPML (Linguagem modelando processos do negóci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ja feito para suportar somente os conceitos de modelar, isso são aplicável aos processos do negóci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ja extensível para suportar o crescimento futuro de BPML e de modelar processos do negóci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ha uma semântica real, e não apenas uma notação visual como utilizar ferramentas diagramas para modelar processo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ação de BPMN de um processo do negócio deve ser ambíguo. Deve-se traçar um ou mais processos de BMPN para BMP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rão</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quanto recorre um trabalho de BPMN o grupo de trabalho dev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ar uma revisão e periodicamente e actualizar a notação de BPMN e esboçar a programação da liberação da notaçã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ca para minimizar restrições técnicos colocadas em cima pelo analista ao modelar os processos do negócio. Este princípio é fundamental.</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r os conceitos modelando os processos do negócio que são aplicáveis à notação gráfica.</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r que semântica de BPML é ou não é aplicável à notação gráfica.</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r documentação e oportunidades da informação que compartilham e a disseminação nas áreas de interesse comum e relacionado com outros corpos dos grupos e dos padrões de funcionam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gure-se de que o desenvolvimento de BPML esteja reflectido em BPM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za um glossário padrão dos termos para utilizar dentro da modelação de proces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cessidades e Problemas para as Empresas </a:t>
            </a: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ó se justificara para processos muitos complex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pança de custos e uma maior rapidez de lançamento de produtos no mercad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zir a fragmentação que existe com a variedade de processos que são modelados por ferramentas e notaçõ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bologia do BMPN</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tro categorias básicas de elemento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bjectos de Flux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exão de Object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wimla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rtefac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s de Fluxo</a:t>
            </a:r>
            <a:endParaRPr b="0" lang="en-US" sz="4400" spc="-1" strike="noStrike">
              <a:solidFill>
                <a:srgbClr val="000000"/>
              </a:solidFill>
              <a:latin typeface="Arial"/>
            </a:endParaRPr>
          </a:p>
        </p:txBody>
      </p:sp>
      <p:sp>
        <p:nvSpPr>
          <p:cNvPr id="123" name=""/>
          <p:cNvSpPr/>
          <p:nvPr/>
        </p:nvSpPr>
        <p:spPr>
          <a:xfrm>
            <a:off x="1122480" y="-104760"/>
            <a:ext cx="1711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a:off x="1122480" y="-104760"/>
            <a:ext cx="1711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1122480" y="-104760"/>
            <a:ext cx="1711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1122480" y="-104760"/>
            <a:ext cx="1711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1122480" y="-104760"/>
            <a:ext cx="1711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8" name=""/>
          <p:cNvSpPr/>
          <p:nvPr/>
        </p:nvSpPr>
        <p:spPr>
          <a:xfrm>
            <a:off x="1122480" y="-104760"/>
            <a:ext cx="1711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
          <p:cNvSpPr/>
          <p:nvPr/>
        </p:nvSpPr>
        <p:spPr>
          <a:xfrm>
            <a:off x="1122480" y="-104760"/>
            <a:ext cx="1711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1122480" y="-104760"/>
            <a:ext cx="1711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1122480" y="-104760"/>
            <a:ext cx="1711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2" name="" descr=""/>
          <p:cNvPicPr/>
          <p:nvPr/>
        </p:nvPicPr>
        <p:blipFill>
          <a:blip r:embed="rId1"/>
          <a:stretch/>
        </p:blipFill>
        <p:spPr>
          <a:xfrm>
            <a:off x="7020000" y="2205000"/>
            <a:ext cx="504720" cy="514440"/>
          </a:xfrm>
          <a:prstGeom prst="rect">
            <a:avLst/>
          </a:prstGeom>
          <a:ln w="0">
            <a:noFill/>
          </a:ln>
        </p:spPr>
      </p:pic>
      <p:pic>
        <p:nvPicPr>
          <p:cNvPr id="133" name="" descr=""/>
          <p:cNvPicPr/>
          <p:nvPr/>
        </p:nvPicPr>
        <p:blipFill>
          <a:blip r:embed="rId2"/>
          <a:stretch/>
        </p:blipFill>
        <p:spPr>
          <a:xfrm>
            <a:off x="6804000" y="3068640"/>
            <a:ext cx="961920" cy="1447920"/>
          </a:xfrm>
          <a:prstGeom prst="rect">
            <a:avLst/>
          </a:prstGeom>
          <a:ln w="0">
            <a:noFill/>
          </a:ln>
        </p:spPr>
      </p:pic>
      <p:pic>
        <p:nvPicPr>
          <p:cNvPr id="134" name="" descr=""/>
          <p:cNvPicPr/>
          <p:nvPr/>
        </p:nvPicPr>
        <p:blipFill>
          <a:blip r:embed="rId3"/>
          <a:stretch/>
        </p:blipFill>
        <p:spPr>
          <a:xfrm>
            <a:off x="6637320" y="4653000"/>
            <a:ext cx="1247760" cy="1871640"/>
          </a:xfrm>
          <a:prstGeom prst="rect">
            <a:avLst/>
          </a:prstGeom>
          <a:ln w="0">
            <a:noFill/>
          </a:ln>
        </p:spPr>
      </p:pic>
      <p:sp>
        <p:nvSpPr>
          <p:cNvPr id="135" name=""/>
          <p:cNvSpPr/>
          <p:nvPr/>
        </p:nvSpPr>
        <p:spPr>
          <a:xfrm>
            <a:off x="2243160" y="-2570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6" name=""/>
          <p:cNvSpPr/>
          <p:nvPr/>
        </p:nvSpPr>
        <p:spPr>
          <a:xfrm>
            <a:off x="2243160" y="-2570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7" name=""/>
          <p:cNvSpPr/>
          <p:nvPr/>
        </p:nvSpPr>
        <p:spPr>
          <a:xfrm>
            <a:off x="2243160" y="-257040"/>
            <a:ext cx="1711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138" name=""/>
          <p:cNvGraphicFramePr/>
          <p:nvPr/>
        </p:nvGraphicFramePr>
        <p:xfrm>
          <a:off x="395280" y="1557360"/>
          <a:ext cx="8064360" cy="5040000"/>
        </p:xfrm>
        <a:graphic>
          <a:graphicData uri="http://schemas.openxmlformats.org/drawingml/2006/table">
            <a:tbl>
              <a:tblPr/>
              <a:tblGrid>
                <a:gridCol w="1655640"/>
                <a:gridCol w="4240080"/>
                <a:gridCol w="2168640"/>
              </a:tblGrid>
              <a:tr h="301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Elem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Descriçã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Notaçã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1121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ento</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Um evento é algo que acontece durante um processo do negócio. Estes eventos afectam o fluxo do processo e têm geralmente uma causa ou um impacto. Há três tipos de eventos, baseados sobre quando afectam o fluxo: Star, Intermediate, e End.</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623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low Dimension</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O Star evento indica onde um processo particular começará.</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Os eventos intermediários ocorrem entre um evento do começo e um evento do fim. Afectará o fluxo do processo, mas não o começará ou (directamente) terminara o process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O End evento indica onde um processo terminará. </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993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ipo de dimensão</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Times New Roman"/>
                        </a:rPr>
                        <a:t>O começo e a maioria de eventos intermediários têm os triggers que definem a causa para o evento. Há umas maneiras múltiplas que estes eventos podem ser provocados. Os eventos do fim podem definir um resultado que seja uma consequência de um fluxo da sequência.</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14:55:42Z</dcterms:created>
  <dc:creator>Administrador</dc:creator>
  <dc:description/>
  <dc:language>en-US</dc:language>
  <cp:lastModifiedBy>Administrador</cp:lastModifiedBy>
  <dcterms:modified xsi:type="dcterms:W3CDTF">2005-11-07T19:13:39Z</dcterms:modified>
  <cp:revision>4</cp:revision>
  <dc:subject/>
  <dc:title>Business Process Modeling Notation (BPMN)</dc:title>
</cp:coreProperties>
</file>