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024-E9B9-4C0E-9BC6-92BC5DA6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878-FD38-4EBF-820E-89A6E725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DD4-6A14-4A54-BB8D-A69D7C79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24E-B487-47D8-A761-44ADA1C8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61A-59B8-4F79-BBE3-099B41D9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144-F210-4DAC-A20E-FA431FDF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78D-5520-4AA8-9B7E-4D2E6304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492-603D-447B-9B5F-160D94F8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629-FD39-442F-9E16-DE057197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52C-5F22-435E-89CB-F9401B4E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186-98D0-4754-8D87-10C67DD7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6D70-BBF1-4332-8005-4C003CFD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2EDE-655C-4A27-9F39-E935060DB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4680" y="321264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wis721 Lt BT"/>
              </a:rPr>
              <a:t>Desenvolvimento da Aplicação de Gestão de Licenças de Táx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494172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Swis721 Lt BT"/>
              </a:rPr>
              <a:t>Luís Miguel da Silva Arê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Swis721 Lt BT"/>
              </a:rPr>
              <a:t>arede@student.dei.uc.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9640" cy="1413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19640" y="0"/>
            <a:ext cx="4824360" cy="1413000"/>
          </a:xfrm>
          <a:prstGeom prst="rect">
            <a:avLst/>
          </a:prstGeom>
          <a:solidFill>
            <a:srgbClr val="308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237360"/>
            <a:ext cx="9180360" cy="647640"/>
          </a:xfrm>
          <a:prstGeom prst="rect">
            <a:avLst/>
          </a:prstGeom>
          <a:solidFill>
            <a:srgbClr val="308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ociação de informática da região cen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6000" y="6237360"/>
            <a:ext cx="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303120"/>
            <a:ext cx="20160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-27000"/>
            <a:ext cx="9180360" cy="719280"/>
          </a:xfrm>
          <a:prstGeom prst="rect">
            <a:avLst/>
          </a:prstGeom>
          <a:solidFill>
            <a:srgbClr val="308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742160" y="49320"/>
            <a:ext cx="1222560" cy="500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7160" y="921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wis721 Lt BT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165720"/>
            <a:ext cx="9180360" cy="719280"/>
          </a:xfrm>
          <a:prstGeom prst="rect">
            <a:avLst/>
          </a:prstGeom>
          <a:solidFill>
            <a:srgbClr val="308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742160" y="6242040"/>
            <a:ext cx="1222560" cy="500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9200" y="62848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wis721 Lt BT"/>
              </a:rPr>
              <a:t>Obrigad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57440" y="2997360"/>
            <a:ext cx="1953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QUESTÕ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-27000"/>
            <a:ext cx="9180360" cy="719280"/>
          </a:xfrm>
          <a:prstGeom prst="rect">
            <a:avLst/>
          </a:prstGeom>
          <a:solidFill>
            <a:srgbClr val="308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742160" y="49320"/>
            <a:ext cx="1222560" cy="500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960" y="9216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wis721 Lt BT"/>
              </a:rPr>
              <a:t>Obj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Lt BT"/>
              </a:rPr>
              <a:t>Integrar a aplicação no produto TAX da AI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Lt BT"/>
              </a:rPr>
              <a:t>Implementar a solução num ambiente cliente-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Lt BT"/>
              </a:rPr>
              <a:t>Uso do PowerBuilder (baseado no FrameWork do aplicativo TAX) como Ferramenta de Desenvolv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-27000"/>
            <a:ext cx="9180360" cy="719280"/>
          </a:xfrm>
          <a:prstGeom prst="rect">
            <a:avLst/>
          </a:prstGeom>
          <a:solidFill>
            <a:srgbClr val="308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742160" y="49320"/>
            <a:ext cx="1222560" cy="500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960" y="9216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wis721 Lt BT"/>
              </a:rPr>
              <a:t>Obj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1127160"/>
            <a:ext cx="882036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27000"/>
            <a:ext cx="9180360" cy="719280"/>
          </a:xfrm>
          <a:prstGeom prst="rect">
            <a:avLst/>
          </a:prstGeom>
          <a:solidFill>
            <a:srgbClr val="308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42160" y="49320"/>
            <a:ext cx="1222560" cy="500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9216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wis721 Lt BT"/>
              </a:rPr>
              <a:t>Requisitos Fun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Lt BT"/>
              </a:rPr>
              <a:t>Registo e Manutenção das Entidades Exploradoras dos Tá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Lt BT"/>
              </a:rPr>
              <a:t>Registo e Manutenção dos Tá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Lt BT"/>
              </a:rPr>
              <a:t>Registo e Manutenção dos Contingentes e respectivos Regimes de Estac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Lt BT"/>
              </a:rPr>
              <a:t>Registo e Manutenção das Licenças de Tá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Lt BT"/>
              </a:rPr>
              <a:t>Visualização e Impressão de Licenças de Tá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Lt BT"/>
              </a:rPr>
              <a:t>Emissão de Guias de Recebimento automáticas e geração automática de 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-27000"/>
            <a:ext cx="9180360" cy="719280"/>
          </a:xfrm>
          <a:prstGeom prst="rect">
            <a:avLst/>
          </a:prstGeom>
          <a:solidFill>
            <a:srgbClr val="308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42160" y="49320"/>
            <a:ext cx="1222560" cy="500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6640" y="9216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wis721 Lt BT"/>
              </a:rPr>
              <a:t>Plano de Trabal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53440" cy="187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3284640"/>
            <a:ext cx="82296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wis721 Lt BT"/>
              </a:rPr>
              <a:t>T1: Anál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s721 Lt BT"/>
              </a:rPr>
              <a:t>Análise e Identificação dos Requi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wis721 Lt BT"/>
              </a:rPr>
              <a:t>T2: Des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s721 Lt BT"/>
              </a:rPr>
              <a:t>Apresentação de um protó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wis721 Lt BT"/>
              </a:rPr>
              <a:t>T3: Imple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s721 Lt BT"/>
              </a:rPr>
              <a:t>Construção das Funcionalidades Identific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wis721 Lt BT"/>
              </a:rPr>
              <a:t>T4: Te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s721 Lt BT"/>
              </a:rPr>
              <a:t>Testes para Validação das tarefas desenvolv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wis721 Lt BT"/>
              </a:rPr>
              <a:t>T5: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s721 Lt BT"/>
              </a:rPr>
              <a:t>Disponibilização da 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-27000"/>
            <a:ext cx="9180360" cy="719280"/>
          </a:xfrm>
          <a:prstGeom prst="rect">
            <a:avLst/>
          </a:prstGeom>
          <a:solidFill>
            <a:srgbClr val="308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742160" y="49320"/>
            <a:ext cx="1222560" cy="500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3200" y="92160"/>
            <a:ext cx="61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wis721 Lt BT"/>
              </a:rPr>
              <a:t>Metodologia de Desenvolvimento - R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197000"/>
            <a:ext cx="822960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wis721 Lt BT"/>
              </a:rPr>
              <a:t>Fase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Swis721 Lt BT"/>
              </a:rPr>
              <a:t>Definir SDP (Plano de Desenvolvi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Swis721 Lt BT"/>
              </a:rPr>
              <a:t>Modelo do Processo de Negócio (Regras de Negóc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Swis721 Lt BT"/>
              </a:rPr>
              <a:t>Visão (Revis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Swis721 Lt BT"/>
              </a:rPr>
              <a:t>Lista de Ris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wis721 Lt BT"/>
              </a:rPr>
              <a:t>Modelo de Casos de 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Swis721 Lt BT"/>
              </a:rPr>
              <a:t>Protótipo da arquitec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wis721 Lt BT"/>
              </a:rPr>
              <a:t>Fase de elaboração</a:t>
            </a:r>
            <a:r>
              <a:rPr b="0" lang="pt-PT" sz="2000" spc="-1" strike="noStrike">
                <a:solidFill>
                  <a:srgbClr val="000000"/>
                </a:solidFill>
                <a:latin typeface="Swis721 Lt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Swis721 Lt BT"/>
              </a:rPr>
              <a:t>Desenvolvimento da Arquitec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wis721 Lt BT"/>
              </a:rPr>
              <a:t>Fase de construção</a:t>
            </a:r>
            <a:r>
              <a:rPr b="0" lang="pt-PT" sz="2000" spc="-1" strike="noStrike">
                <a:solidFill>
                  <a:srgbClr val="000000"/>
                </a:solidFill>
                <a:latin typeface="Swis721 Lt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Swis721 Lt BT"/>
              </a:rPr>
              <a:t>Desenvolvimento da 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Swis721 Lt BT"/>
              </a:rPr>
              <a:t>Documentos de Te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Swis721 Lt BT"/>
              </a:rPr>
              <a:t>Correcção de B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Swis721 Lt BT"/>
              </a:rPr>
              <a:t>Fase de Trans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Swis721 Lt BT"/>
              </a:rPr>
              <a:t>Distribuição e Instalação da versão Alf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-27000"/>
            <a:ext cx="9180360" cy="719280"/>
          </a:xfrm>
          <a:prstGeom prst="rect">
            <a:avLst/>
          </a:prstGeom>
          <a:solidFill>
            <a:srgbClr val="308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742160" y="49320"/>
            <a:ext cx="1222560" cy="50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7480" y="92160"/>
            <a:ext cx="53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wis721 Lt BT"/>
              </a:rPr>
              <a:t>Plano de Desenvolvimento - G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799308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-27000"/>
            <a:ext cx="9180360" cy="719280"/>
          </a:xfrm>
          <a:prstGeom prst="rect">
            <a:avLst/>
          </a:prstGeom>
          <a:solidFill>
            <a:srgbClr val="308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742160" y="49320"/>
            <a:ext cx="1222560" cy="500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9440" y="9216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wis721 Lt BT"/>
              </a:rPr>
              <a:t>Tecnologias Utili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844640"/>
            <a:ext cx="822960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Lt BT"/>
              </a:rPr>
              <a:t>PowerBuilder – Ferramenta de Desenvolv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Lt BT"/>
              </a:rPr>
              <a:t>Informix – Motor de Base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Lt BT"/>
              </a:rPr>
              <a:t>RequisitePro – Gestão de Documentos e Organização de Taref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Lt BT"/>
              </a:rPr>
              <a:t>PowerDesigner – Criação de Diagramas e Modelo Concep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-27000"/>
            <a:ext cx="9180360" cy="719280"/>
          </a:xfrm>
          <a:prstGeom prst="rect">
            <a:avLst/>
          </a:prstGeom>
          <a:solidFill>
            <a:srgbClr val="308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742160" y="49320"/>
            <a:ext cx="1222560" cy="500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3920" y="921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wis721 Lt BT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Lt BT"/>
              </a:rPr>
              <a:t>Ponto de Sit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Lt BT"/>
              </a:rPr>
              <a:t>Fase de Construção – Fim do desenvolvimento de uma versão Beta a apresentar ao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Lt BT"/>
              </a:rPr>
              <a:t>Desv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Lt BT"/>
              </a:rPr>
              <a:t>Atraso Inicial devido à curva de aprendizagem do PowerBui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Lt BT"/>
              </a:rPr>
              <a:t>Plano de Trabalhos sofreu alt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Lt BT"/>
              </a:rPr>
              <a:t>Próximas Taref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Lt BT"/>
              </a:rPr>
              <a:t>Desenvolvimento de Script de Te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wis721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Lt BT"/>
              </a:rPr>
              <a:t>Desenvolvimento das restantes funcion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18:47:37Z</dcterms:created>
  <dc:creator>Ricardo Riquito</dc:creator>
  <dc:description/>
  <dc:language>en-US</dc:language>
  <cp:lastModifiedBy>Luis Miguel da Silva Arede</cp:lastModifiedBy>
  <dcterms:modified xsi:type="dcterms:W3CDTF">2006-05-16T17:12:12Z</dcterms:modified>
  <cp:revision>55</cp:revision>
  <dc:subject/>
  <dc:title>AIRC klkklkskska</dc:title>
</cp:coreProperties>
</file>